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1.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6.png" ContentType="image/png"/>
  <Override PartName="/ppt/media/image31.png" ContentType="image/png"/>
  <Override PartName="/ppt/media/image22.jpeg" ContentType="image/jpe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png" ContentType="image/png"/>
  <Override PartName="/ppt/media/image30.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24.jpeg" ContentType="image/jpeg"/>
  <Override PartName="/ppt/media/image16.png" ContentType="image/png"/>
  <Override PartName="/ppt/media/image32.jpeg" ContentType="image/jpeg"/>
  <Override PartName="/ppt/media/image1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D95E-E00D-43D6-B42F-D3444E9DF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9078-3374-4FB7-BA33-0E4C08714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seven percent (N=15) reported the perpetrator had threatened, or harmed the pet(s) in front of the children. One woman wrote “…he drowned the dog in front of the children…” </a:t>
            </a: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A34B-B113-4782-BB9D-78FB528571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7DDD-ABF2-499F-A7C6-754F852D8F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t loss maybe because of  moving into a refuge or the pet was hurt or  killed through the family violence. We are seeing an increase over the last three years of referrals from Dept Child Protection  for children care , these are children with complex issues. Also there is a need for groups for teenagers who are hurting anim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F1F4-91B8-48D9-A078-75C9411404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as important to feed the children as  they have travelled straight from  school for up to 45 minutes to get there. At the end of each session Mums or carers are invited in for the last 10-15mins. The children explain what the session has been about and mums get a information sheet on the theme so they can reinforced the messages through the week.  Homework also for the childr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also result in children in such families being exposed to multiple forms of violence that is now recognized as a significant risk factor to the development of mental health problems. </a:t>
            </a: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A0E4-E0A9-4FB4-98F8-AD7FDC0AFA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was to investigate the need to provide care for pets to enable women and children to leave the abuse and enter a women</a:t>
            </a:r>
            <a:r>
              <a:rPr b="0" lang="ja-JP" sz="1200" spc="-1" strike="noStrike">
                <a:solidFill>
                  <a:srgbClr val="000000"/>
                </a:solidFill>
                <a:latin typeface="Arial"/>
              </a:rPr>
              <a:t>’</a:t>
            </a:r>
            <a:r>
              <a:rPr b="0" lang="en-US" sz="1200" spc="-1" strike="noStrike">
                <a:solidFill>
                  <a:srgbClr val="000000"/>
                </a:solidFill>
                <a:latin typeface="Arial"/>
              </a:rPr>
              <a:t>s refuge.</a:t>
            </a: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86A7-65F9-4D03-9CBD-E08EAE719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88% of the 41 respondents were considered to be pet own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se women, 78% owned between 1 – 3 pets.  In one extreme case, a woman was reported to have 18 companion p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727C-B19B-4995-B883-55034006D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289E7DD-3D05-4B9D-97CB-678370778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CBFA835-3B8F-4E38-9758-9DFA487AF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F43096A-78F5-4537-B846-C78D4DB6BE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66F6B43-DF77-448E-9C6B-DE341C4556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1D8B851-1CD6-4F3D-AC19-F9CFCE334C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D559F15-7127-4C54-B4CC-65B7B92F1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9A44B6A-CE5C-4EAE-9DF1-3781CA0B2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202843D-9BD0-4AB5-B02A-AD03BAFFE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9774DA9-CE08-4347-B473-E04C927746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BD2D969-A1AF-4FD3-A74D-0E131E09D4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76973B5-5E62-4333-B137-9212903167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30C54DA-A82A-4572-8BAB-F44A96F0AE7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8B60334-F26E-40EB-9082-EE2D61EC797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20F858-57F4-491A-BEC2-38A484B7D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0EC481-CC6C-4AD6-9A92-E1221F131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B59D73-E33A-4C2D-85FC-4451422EF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EDE746-E7D7-4CC5-8E9E-DABC9B8F0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693D8A-9674-49EC-AEC8-D8771DEF6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52E06C-6354-4107-A7DC-1E0BC283F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2CC4EA-7136-4AE0-816F-D3A0B40F8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1D49ED3-82F3-41C2-8D50-68163BA54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3CFF33-9C3E-48DE-9751-297B17A6D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420418-6831-4EAD-873D-8C44B3493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B993F4-FDE8-4C1B-8CE4-CBA8E8248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406986-7245-4606-9AB9-5C7FE9052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D1E17D-6292-4D6E-B74C-71B2A6595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F64316-0B6F-4F26-84D6-83CF0E4690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A5B37-1762-44FA-B1A3-F8F84652B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3F305-11DD-46FF-B46C-621E28E97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5769A-D8DD-4852-A0D0-182C092C7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53F15-20A3-4202-B44A-28FA0C7C2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6125074-8AD7-478E-81E9-23F044160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E1A10-1CE2-4CE3-991B-5409B012D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86A6E-FEB5-4C34-9864-43E2ABE46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EADE8-7773-4F53-9873-E79EEB8CC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9977C-0D3B-4E7B-A916-DFE1D59A0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E0A3B-7B16-4D1A-A163-3EE0E3A45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554C8E-59C1-46F4-87BB-6E74D06F7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95ADC1-2AA0-4F9D-A229-717CCFE5EF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200F993-E762-46B6-96AD-53F016E8D0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9B34A5-8920-4024-AC57-807B73F0A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2B3533-753C-4436-A5CD-00352AB64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5D82759-E6E0-4C61-BE29-22A8B18AF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C6F84A-AFE5-4FAD-8021-C4220D083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86F68E7-295A-4F93-A626-A38902D37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E66D9A-4BC3-480D-8721-AC829CBD8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C1329A-0A2C-4416-BA7A-EE0DA8E6B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C3BF26-15BA-42A0-ABE1-81545EACD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6D6552-7041-4ED1-92BB-C9402D223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37BE59-29BF-4805-9955-9183F06DC6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AFB4B6-1E3F-4471-A416-1F34D0283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CB6C22B-A303-4BB6-9B35-9151F6C9BB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BEE7CF-6C6D-476D-96D1-0C18FB666C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B3E74B7-BE38-4402-8D2B-C9458A8BC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078EAB-F14E-45D6-8722-622075073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885F6-6E57-4C2F-A5E2-41DCC0C7AB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A9EE05-A265-4218-805A-A8B0A99407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09CDF-4CF9-4664-BFC0-9E78A4290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B8E64-1A97-4A4E-BE55-62381B43E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895F6-B48C-47C9-A2A2-B9B54527E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5F348-41F4-4849-B18D-140FDA03A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912D2-8506-41FE-9C7B-98C9E9F78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14132-50BB-4EBF-AF5B-6B357BE75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9C8CD5-F57E-41E8-B4DE-25EE97BA81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DCA908D-5AD0-4477-9B1F-8531BCFC4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1CE40B-77BE-4631-96C3-3A5DD2A224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439A9D-5CDC-4CCE-86F7-3B074FB329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45F840-04D3-4DFA-B01A-EA11A2625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E67F65-B714-44E7-996D-9515C101E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24047E-7588-4E32-9A92-09F1E3F45E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7D8F9-DEF3-466D-B3AE-15DACFAC1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AF1ED-70EE-40EF-98C9-0F9F48BCC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505B0-BEF5-4578-9AB6-818A70CC3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07FCB-0AFF-4BBA-8F78-0A974507B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96DC6-A358-4313-BFFE-38E40BC3D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E12EE21-689D-4F71-AEF0-6404FC261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427238-1F96-404B-BE3A-8CF82C4DB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BC5C48-8DFD-4AC7-BE0C-6EEA17DE5F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F5D4A4-7383-43C3-8572-8F6551FB64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05C60A-D58D-404E-BC1A-495D15028E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5C35E-297E-455C-9F78-604D03498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549877-CCA4-4489-B273-261746482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099C7A-57A9-4B21-8CE5-89E8213DE0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E6D5E2-FB8F-4190-AF57-8EB77D9A4C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3A18F-A6F4-4B33-BD54-9EA63DBE9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D9030-4C70-4DC7-880E-5FDA970FB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8B3C749-C7F8-416F-9F2A-EA553C042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6B726-21AD-479E-8BFD-D721B6A69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9186B-EA2A-442A-A15F-B69F799EF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FC6A3A-7F22-4342-AA13-920927FC9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5415E3-C60D-4755-906F-269111090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37BF8C-6EDC-43A6-AAD9-D9AA38242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0C4056C-3EAF-47D1-8C03-182953FD19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D16F8A1-6BF5-4DF3-96C2-F1BDBFB2F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19D1AF2-4BE9-48A4-96B9-5F72D96B43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18A03F2-399B-4271-98F2-DFB94C6CA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C8A2454-6975-4D78-8AB8-A83FF8640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397A86A-D1E9-407E-9258-6B7D11644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9FCC55D-1867-42F2-89BE-C3F1578AED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7324185-DCBA-4932-B8ED-338DE3B46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7A11F3D-B4CA-4CA3-9160-F849F6588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E421BD7-10DA-4AAB-93C0-470A9CA8A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8A41CDD-A1A5-436B-9278-5BDE50446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1A0BF21-D237-453B-94BE-47C272E799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A702228-F980-450C-8D28-975EE66775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C32F23B-22D1-4D26-914F-55BFECCB1A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C63741D-589F-4DD8-9A52-FA4A8FF62A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D8BBAAD-DC03-4E88-BE5C-FF2F59ED64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8760" y="139680"/>
            <a:ext cx="8826480" cy="6585120"/>
            <a:chOff x="158760" y="139680"/>
            <a:chExt cx="8826480" cy="6585120"/>
          </a:xfrm>
        </p:grpSpPr>
        <p:pic>
          <p:nvPicPr>
            <p:cNvPr id="1" name="Round Diagonal Corner Rectangle 6" descr=""/>
            <p:cNvPicPr/>
            <p:nvPr/>
          </p:nvPicPr>
          <p:blipFill>
            <a:blip r:embed="rId3"/>
            <a:stretch/>
          </p:blipFill>
          <p:spPr>
            <a:xfrm>
              <a:off x="158760" y="139680"/>
              <a:ext cx="8826480" cy="658512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C601-5B9D-4309-A1E4-48529841F88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8760" y="139680"/>
            <a:ext cx="8826480" cy="2517840"/>
            <a:chOff x="158760" y="139680"/>
            <a:chExt cx="8826480" cy="2517840"/>
          </a:xfrm>
        </p:grpSpPr>
        <p:pic>
          <p:nvPicPr>
            <p:cNvPr id="45" name="Round Diagonal Corner Rectangle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6EBC-522F-44FD-8F3B-BD611B02549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8760" y="139680"/>
            <a:ext cx="8826480" cy="6585120"/>
            <a:chOff x="158760" y="139680"/>
            <a:chExt cx="8826480" cy="6585120"/>
          </a:xfrm>
        </p:grpSpPr>
        <p:pic>
          <p:nvPicPr>
            <p:cNvPr id="89" name="Round Diagonal Corner Rectangle 6" descr=""/>
            <p:cNvPicPr/>
            <p:nvPr/>
          </p:nvPicPr>
          <p:blipFill>
            <a:blip r:embed="rId3"/>
            <a:stretch/>
          </p:blipFill>
          <p:spPr>
            <a:xfrm>
              <a:off x="158760" y="139680"/>
              <a:ext cx="8826480" cy="658512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7F04-7139-426F-A015-0AB74ECC32D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64C7-09AC-4A2C-A826-59B86BC440F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8760" y="139680"/>
            <a:ext cx="8826480" cy="6585120"/>
            <a:chOff x="158760" y="139680"/>
            <a:chExt cx="8826480" cy="6585120"/>
          </a:xfrm>
        </p:grpSpPr>
        <p:pic>
          <p:nvPicPr>
            <p:cNvPr id="176" name="Round Diagonal Corner Rectangle 6" descr=""/>
            <p:cNvPicPr/>
            <p:nvPr/>
          </p:nvPicPr>
          <p:blipFill>
            <a:blip r:embed="rId3"/>
            <a:stretch/>
          </p:blipFill>
          <p:spPr>
            <a:xfrm>
              <a:off x="158760" y="139680"/>
              <a:ext cx="8826480" cy="658512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FBC6-AC9F-4DB5-9B91-E45B0493DD0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8760" y="139680"/>
            <a:ext cx="8826480" cy="6585120"/>
            <a:chOff x="158760" y="139680"/>
            <a:chExt cx="8826480" cy="6585120"/>
          </a:xfrm>
        </p:grpSpPr>
        <p:pic>
          <p:nvPicPr>
            <p:cNvPr id="221" name="Round Diagonal Corner Rectangle 6" descr=""/>
            <p:cNvPicPr/>
            <p:nvPr/>
          </p:nvPicPr>
          <p:blipFill>
            <a:blip r:embed="rId3"/>
            <a:stretch/>
          </p:blipFill>
          <p:spPr>
            <a:xfrm>
              <a:off x="158760" y="139680"/>
              <a:ext cx="8826480" cy="658512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F236-8DD3-445D-8FBB-D783D430561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8760" y="139680"/>
            <a:ext cx="8826480" cy="6585120"/>
            <a:chOff x="158760" y="139680"/>
            <a:chExt cx="8826480" cy="6585120"/>
          </a:xfrm>
        </p:grpSpPr>
        <p:pic>
          <p:nvPicPr>
            <p:cNvPr id="267" name="Round Diagonal Corner Rectangle 6" descr=""/>
            <p:cNvPicPr/>
            <p:nvPr/>
          </p:nvPicPr>
          <p:blipFill>
            <a:blip r:embed="rId3"/>
            <a:stretch/>
          </p:blipFill>
          <p:spPr>
            <a:xfrm>
              <a:off x="158760" y="139680"/>
              <a:ext cx="8826480" cy="658512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0259-069F-4A72-99E5-C9A61357963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24EA-EB8F-451B-B9CD-F58EC44E061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FD15-69A5-45C2-82BF-08520A838B6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hyperlink" Target="http://www.sugarloafvet.com.au/sites/site-2863/images/72bf368e-7f00-0001-24c5-22ba92f74e11.jpg" TargetMode="External"/><Relationship Id="rId4" Type="http://schemas.openxmlformats.org/officeDocument/2006/relationships/image" Target="../media/image22.jpe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
          <p:cNvPicPr/>
          <p:nvPr/>
        </p:nvPicPr>
        <p:blipFill>
          <a:blip r:embed="rId1"/>
          <a:stretch/>
        </p:blipFill>
        <p:spPr>
          <a:xfrm>
            <a:off x="755640" y="692280"/>
            <a:ext cx="7307280" cy="1314360"/>
          </a:xfrm>
          <a:prstGeom prst="rect">
            <a:avLst/>
          </a:prstGeom>
          <a:ln w="0">
            <a:noFill/>
          </a:ln>
        </p:spPr>
      </p:pic>
      <p:pic>
        <p:nvPicPr>
          <p:cNvPr id="402" name="Picture 5" descr=""/>
          <p:cNvPicPr/>
          <p:nvPr/>
        </p:nvPicPr>
        <p:blipFill>
          <a:blip r:embed="rId2"/>
          <a:stretch/>
        </p:blipFill>
        <p:spPr>
          <a:xfrm>
            <a:off x="1258920" y="2492280"/>
            <a:ext cx="6429240" cy="2089080"/>
          </a:xfrm>
          <a:prstGeom prst="rect">
            <a:avLst/>
          </a:prstGeom>
          <a:ln w="0">
            <a:noFill/>
          </a:ln>
        </p:spPr>
      </p:pic>
      <p:sp>
        <p:nvSpPr>
          <p:cNvPr id="403" name="Rectangle 7"/>
          <p:cNvSpPr/>
          <p:nvPr/>
        </p:nvSpPr>
        <p:spPr>
          <a:xfrm>
            <a:off x="290880" y="4797360"/>
            <a:ext cx="856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atricia Giles Centre</a:t>
            </a:r>
            <a:endParaRPr b="0" lang="en-US" sz="7200" spc="-1" strike="noStrike">
              <a:solidFill>
                <a:srgbClr val="ffffff"/>
              </a:solidFill>
              <a:latin typeface="Arial"/>
            </a:endParaRPr>
          </a:p>
        </p:txBody>
      </p:sp>
      <p:pic>
        <p:nvPicPr>
          <p:cNvPr id="404" name="3AF4649C.WAV" descr=""/>
          <p:cNvPicPr/>
          <p:nvPr/>
        </p:nvPicPr>
        <p:blipFill>
          <a:blip r:embed="rId3"/>
          <a:stretch/>
        </p:blipFill>
        <p:spPr>
          <a:xfrm>
            <a:off x="4419720" y="327672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457200" y="201600"/>
            <a:ext cx="8229600" cy="1243080"/>
          </a:xfrm>
          <a:prstGeom prst="rect">
            <a:avLst/>
          </a:prstGeom>
          <a:ln w="0">
            <a:noFill/>
          </a:ln>
        </p:spPr>
      </p:pic>
      <p:sp>
        <p:nvSpPr>
          <p:cNvPr id="42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venty eight percent of the women who completed the questionnaire reported that they have children (N=25).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Children in their care ranged from three months to adult children, with the majority of women having more than one child in her care.  The respondents cared for 24 girls and 30 boys in total.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Of those with children who have witnessed companion pet abuse 31% of the respondents stated that the child had threatened, injured or killed their pet (N=10).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27" name="VTS_04_1_xvid.avi" descr=""/>
          <p:cNvPicPr/>
          <p:nvPr/>
        </p:nvPicPr>
        <p:blipFill>
          <a:blip r:embed="rId1"/>
          <a:stretch/>
        </p:blipFill>
        <p:spPr>
          <a:xfrm>
            <a:off x="0" y="0"/>
            <a:ext cx="9244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47320"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27"/>
                    </p:tgtEl>
                  </p:cond>
                </p:stCondLst>
                <p:childTnLst>
                  <p:par>
                    <p:cTn id="8" nodeType="clickEffect" fill="hold">
                      <p:stCondLst>
                        <p:cond evt="onClick">
                          <p:tgtEl>
                            <p:spTgt spid="427"/>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457200" y="249120"/>
            <a:ext cx="8229600" cy="1219320"/>
          </a:xfrm>
          <a:prstGeom prst="rect">
            <a:avLst/>
          </a:prstGeom>
          <a:ln w="0">
            <a:noFill/>
          </a:ln>
        </p:spPr>
      </p:pic>
      <p:sp>
        <p:nvSpPr>
          <p:cNvPr id="429" name=""/>
          <p:cNvSpPr txBox="1"/>
          <p:nvPr/>
        </p:nvSpPr>
        <p:spPr>
          <a:xfrm>
            <a:off x="4067280" y="1646280"/>
            <a:ext cx="4619520" cy="4525920"/>
          </a:xfrm>
          <a:prstGeom prst="rect">
            <a:avLst/>
          </a:prstGeom>
          <a:noFill/>
          <a:ln w="0">
            <a:noFill/>
          </a:ln>
        </p:spPr>
        <p:txBody>
          <a:bodyPr anchor="t">
            <a:normAutofit fontScale="93000"/>
          </a:bodyPr>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project started with a pilot group in October 2007, funded by the Proceeds of Crime division of the Department of Attorney-General</a:t>
            </a:r>
            <a:r>
              <a:rPr b="0" lang="ja-JP" sz="2400" spc="-1" strike="noStrike">
                <a:solidFill>
                  <a:srgbClr val="ffffff"/>
                </a:solidFill>
                <a:latin typeface="Rockwell"/>
              </a:rPr>
              <a:t>’</a:t>
            </a:r>
            <a:r>
              <a:rPr b="0" lang="en-US" sz="2400" spc="-1" strike="noStrike">
                <a:solidFill>
                  <a:srgbClr val="ffffff"/>
                </a:solidFill>
                <a:latin typeface="Rockwell"/>
              </a:rPr>
              <a:t>s</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8, a group was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9, two groups were funded by the Good Guys Joondalup</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10, two groups were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30" name="Picture 5" descr="http://t3.gstatic.com/images?q=tbn:ANd9GcRagET2z4QxTTQZI1oNFNq4Z9GUFCBBkC99d_G5ppmVixJexO4&amp;t=1&amp;h=181&amp;w=205&amp;usg=__7a0rJbj-iFkFvQBX-wg4U8OwXdo="/>
          <p:cNvPicPr/>
          <p:nvPr/>
        </p:nvPicPr>
        <p:blipFill>
          <a:blip r:embed="rId2"/>
          <a:stretch/>
        </p:blipFill>
        <p:spPr>
          <a:xfrm>
            <a:off x="468360" y="2349360"/>
            <a:ext cx="3274920" cy="288000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7200" y="249120"/>
            <a:ext cx="8229600" cy="1219320"/>
          </a:xfrm>
          <a:prstGeom prst="rect">
            <a:avLst/>
          </a:prstGeom>
          <a:ln w="0">
            <a:noFill/>
          </a:ln>
        </p:spPr>
      </p:pic>
      <p:sp>
        <p:nvSpPr>
          <p:cNvPr id="432" name=""/>
          <p:cNvSpPr txBox="1"/>
          <p:nvPr/>
        </p:nvSpPr>
        <p:spPr>
          <a:xfrm>
            <a:off x="457200" y="1646280"/>
            <a:ext cx="8229600" cy="45259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ach group has two facilitators, a very experienced children's counsellor and a child support worker from the refuge.</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target group is primary aged children 5-12years who have experienced family violence and lost a pet or who have begun hurting animals.</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ildren are asessed prior to acceptance into group to achieve a mix of genders, ages and experienc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390600" y="262080"/>
            <a:ext cx="8010360" cy="1096920"/>
          </a:xfrm>
          <a:prstGeom prst="rect">
            <a:avLst/>
          </a:prstGeom>
          <a:ln w="0">
            <a:noFill/>
          </a:ln>
        </p:spPr>
      </p:pic>
      <p:pic>
        <p:nvPicPr>
          <p:cNvPr id="434" name="Picture 4" descr="786447_72460835"/>
          <p:cNvPicPr/>
          <p:nvPr/>
        </p:nvPicPr>
        <p:blipFill>
          <a:blip r:embed="rId2"/>
          <a:stretch/>
        </p:blipFill>
        <p:spPr>
          <a:xfrm>
            <a:off x="1042920" y="4535640"/>
            <a:ext cx="2449440" cy="2025360"/>
          </a:xfrm>
          <a:prstGeom prst="rect">
            <a:avLst/>
          </a:prstGeom>
          <a:ln w="0">
            <a:noFill/>
          </a:ln>
        </p:spPr>
      </p:pic>
      <p:sp>
        <p:nvSpPr>
          <p:cNvPr id="435" name="Text Box 5"/>
          <p:cNvSpPr/>
          <p:nvPr/>
        </p:nvSpPr>
        <p:spPr>
          <a:xfrm>
            <a:off x="593640" y="1197000"/>
            <a:ext cx="83934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ach session starts with a substantial afternoon te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one   </a:t>
            </a:r>
            <a:r>
              <a:rPr b="0" lang="en-US" sz="2000" spc="-1" strike="noStrike">
                <a:solidFill>
                  <a:srgbClr val="ffffff"/>
                </a:solidFill>
                <a:latin typeface="Rockwell"/>
              </a:rPr>
              <a:t>	</a:t>
            </a:r>
            <a:r>
              <a:rPr b="0" lang="en-US" sz="2000" spc="-1" strike="noStrike">
                <a:solidFill>
                  <a:srgbClr val="ffffff"/>
                </a:solidFill>
                <a:latin typeface="Rockwell"/>
              </a:rPr>
              <a:t>Introduc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wo       </a:t>
            </a:r>
            <a:r>
              <a:rPr b="0" lang="en-US" sz="2000" spc="-1" strike="noStrike">
                <a:solidFill>
                  <a:srgbClr val="ffffff"/>
                </a:solidFill>
                <a:latin typeface="Rockwell"/>
              </a:rPr>
              <a:t>	</a:t>
            </a:r>
            <a:r>
              <a:rPr b="0" lang="en-US" sz="2000" spc="-1" strike="noStrike">
                <a:solidFill>
                  <a:srgbClr val="ffffff"/>
                </a:solidFill>
                <a:latin typeface="Rockwell"/>
              </a:rPr>
              <a:t>Body Languag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hree     </a:t>
            </a:r>
            <a:r>
              <a:rPr b="0" lang="en-US" sz="2000" spc="-1" strike="noStrike">
                <a:solidFill>
                  <a:srgbClr val="ffffff"/>
                </a:solidFill>
                <a:latin typeface="Rockwell"/>
              </a:rPr>
              <a:t>	</a:t>
            </a:r>
            <a:r>
              <a:rPr b="0" lang="en-US" sz="2000" spc="-1" strike="noStrike">
                <a:solidFill>
                  <a:srgbClr val="ffffff"/>
                </a:solidFill>
                <a:latin typeface="Rockwell"/>
              </a:rPr>
              <a:t>Resp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our       </a:t>
            </a:r>
            <a:r>
              <a:rPr b="0" lang="en-US" sz="2000" spc="-1" strike="noStrike">
                <a:solidFill>
                  <a:srgbClr val="ffffff"/>
                </a:solidFill>
                <a:latin typeface="Rockwell"/>
              </a:rPr>
              <a:t>	</a:t>
            </a:r>
            <a:r>
              <a:rPr b="0" lang="en-US" sz="2000" spc="-1" strike="noStrike">
                <a:solidFill>
                  <a:srgbClr val="ffffff"/>
                </a:solidFill>
                <a:latin typeface="Rockwell"/>
              </a:rPr>
              <a:t>Responsibilit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ive        </a:t>
            </a:r>
            <a:r>
              <a:rPr b="0" lang="en-US" sz="2000" spc="-1" strike="noStrike">
                <a:solidFill>
                  <a:srgbClr val="ffffff"/>
                </a:solidFill>
                <a:latin typeface="Rockwell"/>
              </a:rPr>
              <a:t>	</a:t>
            </a:r>
            <a:r>
              <a:rPr b="0" lang="en-US" sz="2000" spc="-1" strike="noStrike">
                <a:solidFill>
                  <a:srgbClr val="ffffff"/>
                </a:solidFill>
                <a:latin typeface="Rockwell"/>
              </a:rPr>
              <a:t>Safet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six         </a:t>
            </a:r>
            <a:r>
              <a:rPr b="0" lang="en-US" sz="2000" spc="-1" strike="noStrike">
                <a:solidFill>
                  <a:srgbClr val="ffffff"/>
                </a:solidFill>
                <a:latin typeface="Rockwell"/>
              </a:rPr>
              <a:t>	</a:t>
            </a:r>
            <a:r>
              <a:rPr b="0" lang="en-US" sz="2000" spc="-1" strike="noStrike">
                <a:solidFill>
                  <a:srgbClr val="ffffff"/>
                </a:solidFill>
                <a:latin typeface="Rockwell"/>
              </a:rPr>
              <a:t>Overview , evaluation feedback from child and par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2000" spc="-1" strike="noStrike">
                <a:solidFill>
                  <a:srgbClr val="ffffff"/>
                </a:solidFill>
                <a:latin typeface="Rockwell"/>
              </a:rPr>
              <a:t>and party with photo albums for each child. </a:t>
            </a:r>
            <a:endParaRPr b="0" lang="en-US" sz="2000" spc="-1" strike="noStrike">
              <a:solidFill>
                <a:srgbClr val="ffffff"/>
              </a:solidFill>
              <a:latin typeface="Arial"/>
            </a:endParaRPr>
          </a:p>
        </p:txBody>
      </p:sp>
      <p:pic>
        <p:nvPicPr>
          <p:cNvPr id="436" name="Picture 13" descr="See full size image">
            <a:hlinkClick r:id="rId3"/>
          </p:cNvPr>
          <p:cNvPicPr/>
          <p:nvPr/>
        </p:nvPicPr>
        <p:blipFill>
          <a:blip r:embed="rId4"/>
          <a:stretch/>
        </p:blipFill>
        <p:spPr>
          <a:xfrm>
            <a:off x="4572000" y="4581360"/>
            <a:ext cx="2952720" cy="18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7200" y="201600"/>
            <a:ext cx="8236080" cy="1243080"/>
          </a:xfrm>
          <a:prstGeom prst="rect">
            <a:avLst/>
          </a:prstGeom>
          <a:ln w="0">
            <a:noFill/>
          </a:ln>
        </p:spPr>
      </p:pic>
      <p:sp>
        <p:nvSpPr>
          <p:cNvPr id="4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provide the animals and the venu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r>
              <a:rPr b="0" lang="en-US" sz="2400" spc="-1" strike="noStrike">
                <a:solidFill>
                  <a:srgbClr val="ffffff"/>
                </a:solidFill>
                <a:latin typeface="Rockwell"/>
              </a:rPr>
              <a:t>The group is held in the cattery or the pet barn with guinea pigs and rabbits. </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education officer is an important part of the group, she is experienced in teaching children about animals and how</a:t>
            </a:r>
            <a:r>
              <a:rPr b="0" lang="en-US" sz="3200" spc="-1" strike="noStrike">
                <a:solidFill>
                  <a:srgbClr val="ffffff"/>
                </a:solidFill>
                <a:latin typeface="Rockwell"/>
              </a:rPr>
              <a:t> </a:t>
            </a:r>
            <a:r>
              <a:rPr b="0" lang="en-US" sz="2400" spc="-1" strike="noStrike">
                <a:solidFill>
                  <a:srgbClr val="ffffff"/>
                </a:solidFill>
                <a:latin typeface="Rockwell"/>
              </a:rPr>
              <a:t>to take care of them.</a:t>
            </a:r>
            <a:endParaRPr b="0" lang="en-US" sz="2400" spc="-1" strike="noStrike">
              <a:solidFill>
                <a:srgbClr val="ffffff"/>
              </a:solidFill>
              <a:latin typeface="Rockwell"/>
            </a:endParaRPr>
          </a:p>
        </p:txBody>
      </p:sp>
      <p:pic>
        <p:nvPicPr>
          <p:cNvPr id="439" name="Picture 5" descr="cat-68i7"/>
          <p:cNvPicPr/>
          <p:nvPr/>
        </p:nvPicPr>
        <p:blipFill>
          <a:blip r:embed="rId2"/>
          <a:stretch/>
        </p:blipFill>
        <p:spPr>
          <a:xfrm>
            <a:off x="1619280" y="4221000"/>
            <a:ext cx="4344840" cy="244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457200" y="249120"/>
            <a:ext cx="8229600" cy="1219320"/>
          </a:xfrm>
          <a:prstGeom prst="rect">
            <a:avLst/>
          </a:prstGeom>
          <a:ln w="0">
            <a:noFill/>
          </a:ln>
        </p:spPr>
      </p:pic>
      <p:sp>
        <p:nvSpPr>
          <p:cNvPr id="441"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tour of the RSPCA venue to meet the animal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Discussion about the similarities between humans and animals reiterating that we all need food, shelter, water and lov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worker observes to determine which animals may suit each child.</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42" name="Picture 6" descr="rabbit01"/>
          <p:cNvPicPr/>
          <p:nvPr/>
        </p:nvPicPr>
        <p:blipFill>
          <a:blip r:embed="rId2"/>
          <a:stretch/>
        </p:blipFill>
        <p:spPr>
          <a:xfrm>
            <a:off x="1979640" y="4076640"/>
            <a:ext cx="3887640" cy="2587680"/>
          </a:xfrm>
          <a:prstGeom prst="rect">
            <a:avLst/>
          </a:prstGeom>
          <a:ln w="0">
            <a:noFill/>
          </a:ln>
        </p:spPr>
      </p:pic>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457200" y="249120"/>
            <a:ext cx="8229600" cy="120816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bserve animals in barn and cattery - what does their body language tell u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tells us if animals are scared or safe?</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ow does your body feel if you are scared?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can we do to help animals feel safe</a:t>
            </a:r>
            <a:r>
              <a:rPr b="0" lang="en-US" sz="2400" spc="-1" strike="noStrike">
                <a:solidFill>
                  <a:srgbClr val="ffffff"/>
                </a:solidFill>
                <a:latin typeface="Rockwell"/>
              </a:rPr>
              <a:t>?</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Rockwel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682560" y="401760"/>
            <a:ext cx="7345440" cy="939600"/>
          </a:xfrm>
          <a:prstGeom prst="rect">
            <a:avLst/>
          </a:prstGeom>
          <a:ln w="0">
            <a:noFill/>
          </a:ln>
        </p:spPr>
      </p:pic>
      <p:sp>
        <p:nvSpPr>
          <p:cNvPr id="446" name=""/>
          <p:cNvSpPr txBox="1"/>
          <p:nvPr/>
        </p:nvSpPr>
        <p:spPr>
          <a:xfrm>
            <a:off x="684360" y="1628640"/>
            <a:ext cx="8229600" cy="23767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visit from Jesse the dog - how do we respect Jesse and what does her body language tell us?</a:t>
            </a:r>
            <a:endParaRPr b="0" lang="en-US" sz="2400" spc="-1" strike="noStrike">
              <a:solidFill>
                <a:srgbClr val="ffffff"/>
              </a:solidFill>
              <a:latin typeface="Rockwell"/>
            </a:endParaRPr>
          </a:p>
          <a:p>
            <a:pPr lvl="1"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ading and discussing  the book </a:t>
            </a:r>
            <a:r>
              <a:rPr b="0" lang="ja-JP" sz="2400" spc="-1" strike="noStrike">
                <a:solidFill>
                  <a:srgbClr val="ffffff"/>
                </a:solidFill>
                <a:latin typeface="Rockwell"/>
              </a:rPr>
              <a:t>‘</a:t>
            </a:r>
            <a:r>
              <a:rPr b="0" lang="en-US" sz="2400" spc="-1" strike="noStrike">
                <a:solidFill>
                  <a:srgbClr val="ffffff"/>
                </a:solidFill>
                <a:latin typeface="Rockwell"/>
              </a:rPr>
              <a:t>Rosie gets respect</a:t>
            </a:r>
            <a:r>
              <a:rPr b="0" lang="ja-JP" sz="2400" spc="-1" strike="noStrike">
                <a:solidFill>
                  <a:srgbClr val="ffffff"/>
                </a:solidFill>
                <a:latin typeface="Rockwell"/>
              </a:rPr>
              <a: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ime in the animal barn talking about how our pets were and were not respected.</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w do we respect our family and friends?</a:t>
            </a:r>
            <a:endParaRPr b="0" lang="en-US" sz="2400" spc="-1" strike="noStrike">
              <a:solidFill>
                <a:srgbClr val="ffffff"/>
              </a:solidFill>
              <a:latin typeface="Rockwell"/>
            </a:endParaRPr>
          </a:p>
        </p:txBody>
      </p:sp>
      <p:sp>
        <p:nvSpPr>
          <p:cNvPr id="447" name="Text Box 7"/>
          <p:cNvSpPr/>
          <p:nvPr/>
        </p:nvSpPr>
        <p:spPr>
          <a:xfrm>
            <a:off x="1635120" y="536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48" name="Picture 9" descr="dog-4-Beautiful-Free-Pictures"/>
          <p:cNvPicPr/>
          <p:nvPr/>
        </p:nvPicPr>
        <p:blipFill>
          <a:blip r:embed="rId2"/>
          <a:stretch/>
        </p:blipFill>
        <p:spPr>
          <a:xfrm>
            <a:off x="2700360" y="4292640"/>
            <a:ext cx="3024000" cy="22683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457200" y="201600"/>
            <a:ext cx="8229600" cy="124308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ternational and national research has highlighted the fact that women subjected to domestic violence are often inhibited in their decision-making by the threat to the safety of the family pets (Ascione 1998; Ascione, Weber &amp; Wood 1997; Flynn 2000; Johnson 2004).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threat is very real. In the US, for example, 71% of the women surveyed at a Utah shelter for battered women indicated that their abusive partner had either killed or harmed one of their pets (Ascione 1998),</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6"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8"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457200" y="249120"/>
            <a:ext cx="8229600" cy="1201680"/>
          </a:xfrm>
          <a:prstGeom prst="rect">
            <a:avLst/>
          </a:prstGeom>
          <a:ln w="0">
            <a:noFill/>
          </a:ln>
        </p:spPr>
      </p:pic>
      <p:sp>
        <p:nvSpPr>
          <p:cNvPr id="466" name=""/>
          <p:cNvSpPr txBox="1"/>
          <p:nvPr/>
        </p:nvSpPr>
        <p:spPr>
          <a:xfrm>
            <a:off x="468000" y="1628640"/>
            <a:ext cx="4608360" cy="4525920"/>
          </a:xfrm>
          <a:prstGeom prst="rect">
            <a:avLst/>
          </a:prstGeom>
          <a:noFill/>
          <a:ln w="0">
            <a:noFill/>
          </a:ln>
        </p:spPr>
        <p:txBody>
          <a:bodyPr anchor="t">
            <a:normAutofit fontScale="97000"/>
          </a:bodyPr>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Children help clean up animals living area, bedding,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ion on animals needs -  clean homes,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eing responsible for yourself -  eating well, sleeping well and exercising</a:t>
            </a:r>
            <a:r>
              <a:rPr b="0" lang="en-US" sz="2400" spc="-1" strike="noStrike">
                <a:solidFill>
                  <a:srgbClr val="ffffff"/>
                </a:solidFill>
                <a:latin typeface="Rockwell"/>
              </a:rPr>
              <a:t>.  </a:t>
            </a:r>
            <a:endParaRPr b="0" lang="en-US" sz="2400" spc="-1" strike="noStrike">
              <a:solidFill>
                <a:srgbClr val="ffffff"/>
              </a:solidFill>
              <a:latin typeface="Rockwell"/>
            </a:endParaRPr>
          </a:p>
        </p:txBody>
      </p:sp>
      <p:pic>
        <p:nvPicPr>
          <p:cNvPr id="467" name="Picture 9" descr="http://www.e-petcare.com/wp-content/uploads/2009/04/dog_food.jpg"/>
          <p:cNvPicPr/>
          <p:nvPr/>
        </p:nvPicPr>
        <p:blipFill>
          <a:blip r:embed="rId2"/>
          <a:stretch/>
        </p:blipFill>
        <p:spPr>
          <a:xfrm>
            <a:off x="5076720" y="1773360"/>
            <a:ext cx="2944800" cy="44114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57200" y="249120"/>
            <a:ext cx="8229600" cy="1219320"/>
          </a:xfrm>
          <a:prstGeom prst="rect">
            <a:avLst/>
          </a:prstGeom>
          <a:ln w="0">
            <a:noFill/>
          </a:ln>
        </p:spPr>
      </p:pic>
      <p:sp>
        <p:nvSpPr>
          <p:cNvPr id="469" name=""/>
          <p:cNvSpPr txBox="1"/>
          <p:nvPr/>
        </p:nvSpPr>
        <p:spPr>
          <a:xfrm>
            <a:off x="468360" y="1484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keep ourselves saf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afety hands in clay – protective behaviour safe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ittens are safe in the Catte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tell people if we are not feeling safe?</a:t>
            </a:r>
            <a:endParaRPr b="0" lang="en-US" sz="3200" spc="-1" strike="noStrike">
              <a:solidFill>
                <a:srgbClr val="ffffff"/>
              </a:solidFill>
              <a:latin typeface="Rockwell"/>
            </a:endParaRPr>
          </a:p>
        </p:txBody>
      </p:sp>
      <p:pic>
        <p:nvPicPr>
          <p:cNvPr id="470" name="Picture 7" descr="http://www.blindpets.com/helmets/zwhite.jpg"/>
          <p:cNvPicPr/>
          <p:nvPr/>
        </p:nvPicPr>
        <p:blipFill>
          <a:blip r:embed="rId2"/>
          <a:stretch/>
        </p:blipFill>
        <p:spPr>
          <a:xfrm>
            <a:off x="3995640" y="4221000"/>
            <a:ext cx="3676680" cy="24480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457200" y="249120"/>
            <a:ext cx="8229600" cy="1208160"/>
          </a:xfrm>
          <a:prstGeom prst="rect">
            <a:avLst/>
          </a:prstGeom>
          <a:ln w="0">
            <a:noFill/>
          </a:ln>
        </p:spPr>
      </p:pic>
      <p:sp>
        <p:nvSpPr>
          <p:cNvPr id="472" name=""/>
          <p:cNvSpPr txBox="1"/>
          <p:nvPr/>
        </p:nvSpPr>
        <p:spPr>
          <a:xfrm>
            <a:off x="457200" y="1645920"/>
            <a:ext cx="8229600" cy="26463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 what we have learnt.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ody Language . Respect, Responsibility and Safety.</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ne last cuddle with the animal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ertificates, photo album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Party. </a:t>
            </a:r>
            <a:endParaRPr b="0" lang="en-US" sz="2800" spc="-1" strike="noStrike">
              <a:solidFill>
                <a:srgbClr val="ffffff"/>
              </a:solidFill>
              <a:latin typeface="Rockwell"/>
            </a:endParaRPr>
          </a:p>
        </p:txBody>
      </p:sp>
      <p:pic>
        <p:nvPicPr>
          <p:cNvPr id="473" name="Picture 7" descr="http://www.steadyhealth.com/2722/Image/dog_and_kids_01.jpg"/>
          <p:cNvPicPr/>
          <p:nvPr/>
        </p:nvPicPr>
        <p:blipFill>
          <a:blip r:embed="rId2"/>
          <a:stretch/>
        </p:blipFill>
        <p:spPr>
          <a:xfrm>
            <a:off x="5003640" y="3860640"/>
            <a:ext cx="3168720" cy="27432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7200" y="49320"/>
            <a:ext cx="8242200" cy="140148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similar Australian study of women living in refuges in Victoria found that 44% of abusive partners had killed or hurt their pets (Johnson 2004).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is a known association between animal abuse and other violent behaviour (Ascione 1998). Animal cruelty may be used by abusers to control their partners.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09" name="Picture 5" descr="http://www.localwin.com/julie/system/files/lu10/Relocating_pets.jpg"/>
          <p:cNvPicPr/>
          <p:nvPr/>
        </p:nvPicPr>
        <p:blipFill>
          <a:blip r:embed="rId2"/>
          <a:stretch/>
        </p:blipFill>
        <p:spPr>
          <a:xfrm>
            <a:off x="3203640" y="2798640"/>
            <a:ext cx="2160360" cy="162108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773000"/>
            <a:ext cx="8229600" cy="4398840"/>
          </a:xfrm>
          <a:prstGeom prst="rect">
            <a:avLst/>
          </a:prstGeom>
          <a:noFill/>
          <a:ln w="0">
            <a:noFill/>
          </a:ln>
        </p:spPr>
        <p:txBody>
          <a:bodyPr anchor="t">
            <a:normAutofit fontScale="96000"/>
          </a:bodyPr>
          <a:p>
            <a:pPr marL="280080" indent="-28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Rockwell"/>
              </a:rPr>
              <a:t>“</a:t>
            </a:r>
            <a:r>
              <a:rPr b="0" lang="en-AU" sz="4800" spc="-1" strike="noStrike">
                <a:solidFill>
                  <a:srgbClr val="ffffff"/>
                </a:solidFill>
                <a:latin typeface="Rockwell"/>
              </a:rPr>
              <a:t>Its a matter of taking the side of the weak against the strong, something the best people have always done.”</a:t>
            </a:r>
            <a:endParaRPr b="0" lang="en-US" sz="48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arriet Beecher Stowe</a:t>
            </a:r>
            <a:endParaRPr b="0" lang="en-US" sz="3200" spc="-1" strike="noStrike">
              <a:solidFill>
                <a:srgbClr val="ffffff"/>
              </a:solidFill>
              <a:latin typeface="Rockwel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457200" y="249120"/>
            <a:ext cx="8229600" cy="1219320"/>
          </a:xfrm>
          <a:prstGeom prst="rect">
            <a:avLst/>
          </a:prstGeom>
          <a:ln w="0">
            <a:noFill/>
          </a:ln>
        </p:spPr>
      </p:pic>
      <p:sp>
        <p:nvSpPr>
          <p:cNvPr id="47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nd Phil Arkow, </a:t>
            </a:r>
            <a:r>
              <a:rPr b="0" i="1" lang="en-AU" sz="3200" spc="-1" strike="noStrike">
                <a:solidFill>
                  <a:srgbClr val="ffffff"/>
                </a:solidFill>
                <a:latin typeface="Rockwell"/>
              </a:rPr>
              <a:t>Child Abuse, Domestic Violence and Animal Abuse – Linking the Circles of Compassion for Prevention and Interventi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t>
            </a:r>
            <a:r>
              <a:rPr b="0" i="1" lang="en-AU" sz="3200" spc="-1" strike="noStrike">
                <a:solidFill>
                  <a:srgbClr val="ffffff"/>
                </a:solidFill>
                <a:latin typeface="Rockwell"/>
              </a:rPr>
              <a:t>Children, Animals and Cruelty, Exploring the Roots of Kindness.</a:t>
            </a:r>
            <a:endParaRPr b="0" lang="en-US" sz="3200" spc="-1" strike="noStrike">
              <a:solidFill>
                <a:srgbClr val="ffffff"/>
              </a:solidFill>
              <a:latin typeface="Rockwell"/>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49320"/>
            <a:ext cx="8242200" cy="140148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itnessing parent and pet abuse may compromise children's psychological adjustment, increase  their propensity for interpersonal violence (via observational learning and/or identification with the aggressor) and make children's cruelty to animals more likely to emerge as a symptom of their distress…</a:t>
            </a:r>
            <a:r>
              <a:rPr b="0" lang="ja-JP" sz="2800" spc="-1" strike="noStrike">
                <a:solidFill>
                  <a:srgbClr val="ffffff"/>
                </a:solidFill>
                <a:latin typeface="Rockwell"/>
              </a:rPr>
              <a:t>“</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scione, Weber &amp; Wood, 1997b, p.4).</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457200" y="201600"/>
            <a:ext cx="8229600" cy="124308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In 2006 the Patricia Giles Centre received funding to undertake West Australian research into the links between pet abuse and  domestic and family violence  </a:t>
            </a:r>
            <a:endParaRPr b="0" lang="en-US" sz="4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7200" y="-12600"/>
            <a:ext cx="8242200" cy="146988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research included 41 questionnaires from women living in 9 refuges in Perth</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eventy eight percent of the women reported current pet ownership (N=32) with ten percent (N=4) reporting to pet ownership in the last 12 months.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Dogs and cats were the most common (93%), with fish, birds, crazy crabs and a rabbit mentioned.</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16" name="Picture 5" descr="http://myturksandcaicosblog.com/wp-content/uploads/2009/01/hermitp1230368.jpg"/>
          <p:cNvPicPr/>
          <p:nvPr/>
        </p:nvPicPr>
        <p:blipFill>
          <a:blip r:embed="rId2"/>
          <a:stretch/>
        </p:blipFill>
        <p:spPr>
          <a:xfrm>
            <a:off x="3203640" y="4437000"/>
            <a:ext cx="2089080" cy="20876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7200" y="79200"/>
            <a:ext cx="8242200" cy="1378080"/>
          </a:xfrm>
          <a:prstGeom prst="rect">
            <a:avLst/>
          </a:prstGeom>
          <a:ln w="0">
            <a:noFill/>
          </a:ln>
        </p:spPr>
      </p:pic>
      <p:sp>
        <p:nvSpPr>
          <p:cNvPr id="418" name=""/>
          <p:cNvSpPr txBox="1"/>
          <p:nvPr/>
        </p:nvSpPr>
        <p:spPr>
          <a:xfrm>
            <a:off x="457200" y="1646280"/>
            <a:ext cx="8229600" cy="4525920"/>
          </a:xfrm>
          <a:prstGeom prst="rect">
            <a:avLst/>
          </a:prstGeom>
          <a:noFill/>
          <a:ln w="0">
            <a:noFill/>
          </a:ln>
        </p:spPr>
        <p:txBody>
          <a:bodyPr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Nearly three quarters (72%) of the respondents owning pets stated their partner had threatened to hurt their pets (N=23)</a:t>
            </a: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 </a:t>
            </a:r>
            <a:r>
              <a:rPr b="0" lang="en-AU" sz="3200" spc="-1" strike="noStrike">
                <a:solidFill>
                  <a:srgbClr val="ffffff"/>
                </a:solidFill>
                <a:latin typeface="Rockwell"/>
              </a:rPr>
              <a:t>66% reported that the perpetrator had hurt or killed one of their pets (N=21). </a:t>
            </a: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49320"/>
            <a:ext cx="8242200" cy="1401480"/>
          </a:xfrm>
          <a:prstGeom prst="rect">
            <a:avLst/>
          </a:prstGeom>
          <a:ln w="0">
            <a:noFill/>
          </a:ln>
        </p:spPr>
      </p:pic>
      <p:sp>
        <p:nvSpPr>
          <p:cNvPr id="420" name=""/>
          <p:cNvSpPr txBox="1"/>
          <p:nvPr/>
        </p:nvSpPr>
        <p:spPr>
          <a:xfrm>
            <a:off x="457200" y="1773000"/>
            <a:ext cx="7283520" cy="439884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ome women respondents gave details of how this abuse occurred. For example: </a:t>
            </a:r>
            <a:endParaRPr b="0" lang="en-US" sz="28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 </a:t>
            </a:r>
            <a:r>
              <a:rPr b="0" lang="en-AU" sz="2400" spc="-1" strike="noStrike">
                <a:solidFill>
                  <a:srgbClr val="ffffff"/>
                </a:solidFill>
                <a:latin typeface="Rockwell"/>
              </a:rPr>
              <a:t>beat the dog and leave (sic) it outside…”; </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throw the cat”</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drowned our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yells and screams at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punch and kick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letting the kids kick pets around”.</a:t>
            </a:r>
            <a:endParaRPr b="0" lang="en-US" sz="2400" spc="-1" strike="noStrike">
              <a:solidFill>
                <a:srgbClr val="ffffff"/>
              </a:solidFill>
              <a:latin typeface="Rockwell"/>
            </a:endParaRPr>
          </a:p>
        </p:txBody>
      </p:sp>
      <p:pic>
        <p:nvPicPr>
          <p:cNvPr id="421" name="Picture 5" descr="http://t1.gstatic.com/images?q=tbn:ANd9GcQojRmeB88d_grGmnxoighmlbXT8Y8NDF87Jbv5ZmwgFlooHUU&amp;t=1&amp;usg=__vYwqkWK-eWFWl_0FLPpQVWaelms="/>
          <p:cNvPicPr/>
          <p:nvPr/>
        </p:nvPicPr>
        <p:blipFill>
          <a:blip r:embed="rId2"/>
          <a:stretch/>
        </p:blipFill>
        <p:spPr>
          <a:xfrm>
            <a:off x="6300720" y="3573360"/>
            <a:ext cx="2648160" cy="17240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457200" y="79200"/>
            <a:ext cx="8242200" cy="137808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 respondents reported the following forms of pet maltreatment:</a:t>
            </a:r>
            <a:endParaRPr b="0" lang="en-US" sz="28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Hitting, kicking, striking, punching or throwing              72% (N=23)</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Leaving the pet(s) in extreme heat or cold                    50% (N=16)</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Refusing the pet(s) veterinary care                               44% (N=14)</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xual abuse of the pet(s)                                              6% (N=2)</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Giving pet(s) illegal drugs/alcohol                                 28% (N=9)</a:t>
            </a:r>
            <a:endParaRPr b="0" lang="en-US" sz="24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se results indicate the comorbidity of abuse styles inflicted upon companion pets.</a:t>
            </a: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6:26:51Z</dcterms:created>
  <dc:creator>KEDY</dc:creator>
  <dc:description/>
  <dc:language>en-US</dc:language>
  <cp:lastModifiedBy>Kim Cousins</cp:lastModifiedBy>
  <dcterms:modified xsi:type="dcterms:W3CDTF">2016-02-23T13:30:20Z</dcterms:modified>
  <cp:revision>71</cp:revision>
  <dc:subject/>
  <dc:title>Slide 1</dc:title>
</cp:coreProperties>
</file>